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5B7D-036B-4424-A987-4243B349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6548-5A6B-4553-99F2-02814534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inutes, 28 seconds Video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hitehouse.gov/photos-and-video/video/2010/09/16/a-stem-education-tools-change-worl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and jot the ideas that stood out to you.  Share these with a partner.  What did you hear that we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880-550B-408B-9038-C8AEBEA0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410-20F1-4A13-ABDF-D443305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859-2DE4-420E-9E24-B8458821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41D-1953-4FF5-9614-9E62AE36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D71-9C9C-4C43-AE72-8499482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A0F-DACE-4F8C-AA5A-47AA2BF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12F-6FB0-44C5-8CEC-EB7D84BB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348-D531-4C99-B7EB-4AF5F158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6A1-47C4-4BD2-BC2D-0BEE8A48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FA6-C173-4441-BE4C-AB563DD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FBB-4DBE-41DE-99EE-0C46363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29A-D88D-4B5B-9923-D026E76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2071-A518-49FE-9AF8-69E9105E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rcRect l="20834" t="30000" r="22919" b="46667"/>
          <a:stretch/>
        </p:blipFill>
        <p:spPr>
          <a:xfrm>
            <a:off x="0" y="-15228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itehouse.gov/photos-and-video/video/2010/09/16/a-stem-education-tools-change-worl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em.definedlearning.com/connect.cfm?asset_guid=6d37717d-0305-4740-ab70-a5fa946e793c&amp;blnSearch=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finedstem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IU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fined STEM 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rainer of Trai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David L. Reese, Ed. 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unny Minelli Weil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vigation of Defined STEM, Exploration and Connecting the D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will now have experience of navigating Defined STEM resources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ease see facilitation script for guidance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be given time to explore site and areas of interes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elect one performance task and video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download “connecting the dots” worksheet from “content manager” in learning commun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yze the resources you located in Defined STE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cument your findings related to the elements contained in “Connect the Dot” worksheet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b Alike 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technological considerations might need to be addressed to effectively use the Defined STEM resourc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the Defined STEM resources be used in a traditional face to face classroo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Defined STEM resources be used beyond traditional classroom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uestions, Considerations and Next Step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would like to get to know you!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your name?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do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know about Defined STE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your hopes for today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stion for Viewin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 What is the vision for STEM and 21st century learning?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M Education-Tools to Change the World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valuation of Defined STEM Resources as these connect to the 21st Century Workpla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cus for view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video, participants should jot down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nt connections in relation to Academic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ill applications – Performance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eativity &amp; Innov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 Environment &amp; Collabor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ing Virtual Technology to Assist in Rocket Desig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take two minutes to independently document observations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groups, identify top 5 connections related to the area of focu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corder to document top 5 list using non-linguistic represent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porter to share the findings of the small group with the large group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flection and Exit Ticket for Brea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desas.org/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login to SA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f participants you not have login information, please create account using the following step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login” in upper right hand corn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join now”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plete registration informa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ter information as prompt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ce you have login, click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teacher tool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 upper right corne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learning communitie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rch for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“PAIUnet:  Defined STEM Learning Community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join now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forum titled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M Education and the 21st Century Work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thin STEM Education and the 21st Century Workplace forum, please respond to the following prompt: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ed upon viewing and evaluating one Defined STEM video, Using Virtual Technology to Assist in Rocket Design, shar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your vision for STEM education; a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the 21st century workplace.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ing Expert and Appl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group will research an assigned area of focus and will create a “Cheat Sheet” identifying critical components of one of the following: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assist you in becoming experts, please visi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finedstem.wikispaces.com/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have 15 minutes to “become experts.”  Please agree on essential elements of concept in preparation for a “jigsaw!”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member of expert team should document the “essential elements” determined by the group to take to jigsaw groups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gsaw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re is now one expert member in each new grou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1 minute shar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task in Defined STEM &amp; Vide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a of Focus:  Technology/Art/Sci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ral Design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resources, please jot down connections to your area of expertise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hare in jigsaw groups key ideas and connections in the Defined STEM performance task and vide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it Ticke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PAIUnet:  Defined Stem Learning Community, please select one of the following forums and respond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1st Century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provide opportunities for students to apply 21st century learning and innovation skill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empower learners through the multiple intelligence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bb'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connect with higher levels of Webb's Depth of Knowledge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support differentiation of content, assessment and instruction?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32:16Z</dcterms:created>
  <dc:creator>sweiland</dc:creator>
  <dc:description/>
  <dc:language>en-US</dc:language>
  <cp:lastModifiedBy>GuestIU20</cp:lastModifiedBy>
  <dcterms:modified xsi:type="dcterms:W3CDTF">2011-05-10T18:18:49Z</dcterms:modified>
  <cp:revision>9</cp:revision>
  <dc:subject/>
  <dc:title>PAIUnet Defined STEM  Trainer of Trainers</dc:title>
</cp:coreProperties>
</file>